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39A-1C33-4A7D-AB61-860D19CE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D59-A368-4FC9-94D1-E2C53DD9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442-8283-46D8-A072-83A6A502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13E-DBD3-4681-868F-12B489B6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9F0-E9D7-4759-9966-96F0398E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C32-C7D1-4FDF-8DEC-ABEB389D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D21-56BA-4417-BD60-8D15AFD8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1FD-0808-4D58-B72C-D4B7E534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9E2-B1AA-4940-8803-9A0C74E3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DA2-4621-40C2-B9BB-AF8BC4A9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5FF-48ED-46DD-8022-8715DEA7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CA6-0799-42EE-BCE3-BFBFC231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EE3B-9588-4321-AD56-00E5B90A76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DB6-B357-485B-8B2A-FFEDA1CED1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have to be home by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’clock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Keep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ar 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rules of safe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en you sw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781-C4F4-4FDD-B0D8-A1F218DEFE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eep in mind &amp;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会记住你的忠告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6360" y="3352680"/>
            <a:ext cx="613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ll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a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r advic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18F-C3D2-48F8-A397-2B857EA8B4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praise of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赞扬、称赞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3352680"/>
            <a:ext cx="7422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ng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in praise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eroes 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3ED-D302-46AE-B3E7-AD9317371E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ng to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rai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eroes 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poet has written many poe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in praise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is mother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8B9-395C-412E-B6CC-D7E98850F3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Paragraph 6, Page 50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do what sb. tells you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遵循，依照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行事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0240" y="3200400"/>
            <a:ext cx="68983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re is a basic pattern of no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ich the musician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C94-103C-4627-8D46-FBC728D9CF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alway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ollow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y ow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inciple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他只听她的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800" y="4648320"/>
            <a:ext cx="5755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only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 he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CAB-DBC3-4419-90DD-3FF2730CA8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这些村民仍然遵守他们祖先的习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villagers  ___ ______ __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_ of their grandfath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4290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ill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3040" y="419112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usto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9E3-705A-4419-BF1C-4222284ACE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 …out of…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制成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5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make bricks out of cla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6880" y="3429000"/>
            <a:ext cx="7099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est Indian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mak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mus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strument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ut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arge oil ca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BA8-7B4D-49FD-A72A-DB45D63B9B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…into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制成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villagers her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k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ambo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building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made of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t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in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made from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grape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CFC-C4F9-4D05-8623-2F35A8F70C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t is reported that paper can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oth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 mad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be made 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1A2-8824-4006-9537-00A494A274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deal with some difficult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ong senten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g Fo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BAE-A5C9-4398-ADD4-28F421EE42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t is reported that paper can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oth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 mad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be made 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D51-006E-4ED0-BDE4-BB6AAC76AA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____ by growing r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akes his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s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8FE-D615-47B0-B18D-829C96F1A9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____ by growing r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makes his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s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96A-4416-4239-A54D-2946A273B7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e should ____ our teachers’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vice on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ass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9D0-1666-4F12-BD08-1A868423D4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e should ____ our teachers’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vice on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ass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72D-4D87-4B94-B09B-84F732B9A9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____ that tomorrow is a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 ou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Learn b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18C-C815-4065-BFA1-11338880F4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____ that tomorrow is a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 ou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Learn b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D46-84BE-40F0-B45F-F8F6F34B7F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ring has ____ in my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four genera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en fo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en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82D-502B-4080-8808-4AA33B67B5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ring has ____ in my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four genera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en fo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been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20C-8C30-48B1-BCD5-51B103DEBC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leader spoke __ the man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d given his life for the ca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loud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50B-3128-4000-ABD6-260CF3CF40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   n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1, Page 50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e way that people get money for life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生计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3276720"/>
            <a:ext cx="63511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y people earn thei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iv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y writing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2A0-E21A-4A10-8809-AF97E800E6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leader spoke __ the man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d given his life for the ca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loud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B7D-E0B6-481D-AB37-34767532ED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3, Paragraph 1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y usually write ex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ction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ow the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to be play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他们通常还要为如何演奏这些音乐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出准确的说明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ED9-AC0C-46A5-933F-157B440D29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always asks hersel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estio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what is to be done nex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have no idea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at you w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er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DD0-E28A-4D0B-936A-D36F065C5A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2, Paragraph 3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ng in praise of heroe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ong ag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DFF-472A-4E03-B04D-AA2D9D2A01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6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7640" y="2666880"/>
            <a:ext cx="649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is was at a tim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en th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as no radio, TV or cine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2520" y="4648320"/>
            <a:ext cx="689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re is a basic pattern of no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ich the musician follow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1CD-347D-4686-B9E6-36F538743E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5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在加勒比海地区，从非洲运来的奴隶发展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他们自己的音乐。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7440" y="2666880"/>
            <a:ext cx="717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Caribbean the slave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o w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rought from Afric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evelop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ir own kind of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8A5-D9BC-4B18-8F70-6B5B953FCC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1, Paragraph 4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some parts of the world nowadays, you often see music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erforming in the streets to passers-b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0C2-908B-4048-A53A-E4B9E5DBCF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ine 2, Paragraph 4, Page 5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put a cap on the ground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nt of them,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o tha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people wh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ke the music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rop coins in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EB6-2FD7-4BFA-917A-D9F6666741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y father bought a bicycle so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cou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get to school quick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studies hard so that 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cce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rested so that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igh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CE6-4D67-4A78-91F4-E7BDEBAA24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2, Paragraph 4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 produces musicals too,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at 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ilms with music, and million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cords are sold every year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FC9-8575-49AA-B3EC-B864C87B02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/ earn one’s liv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谋生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r. Smith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earned his liv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arden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 teac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earns his liv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, a writer by wri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7BE-A031-49D6-AD16-8BBFD74ECF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00ff"/>
                </a:solidFill>
                <a:latin typeface="宋体"/>
              </a:rPr>
              <a:t>插入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即插入到句子中间，或是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在句字末尾，不充当句子成分的词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短语或句子。它主要起修饰或补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说明的作用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457-CBD4-41B9-B7B7-E2FE09D8F28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插入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man wh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 though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n lost the g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know the people wh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y s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re foo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 can take it home,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f you lik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404-F873-47E4-855F-24E9B27BF1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主语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游泳有利于健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这条街上禁止停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8480" y="3200400"/>
            <a:ext cx="623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wimm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good for h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4648320"/>
            <a:ext cx="71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rking on this stree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forbid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AC2-4CEF-4A54-A5B7-0D10688EC98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宾语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别说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他喜欢在山里宿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880" y="3276720"/>
            <a:ext cx="41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lease stop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talk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200" y="4648320"/>
            <a:ext cx="55026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enjoy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amp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untai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8EC-9A6D-472F-B662-62F17AE13B1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表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My hobby i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k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irpla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865-A96C-4A6A-B7CC-974DF48A453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表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她最喜欢的运动是游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她的工作是照顾病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9760" y="3352680"/>
            <a:ext cx="66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favorite sport i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wimm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7960" y="4724280"/>
            <a:ext cx="585468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job i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taking care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tient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192-B2B9-4B89-B4F1-586EAB4BED4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定语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She opened the letter with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rembl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He told us a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uch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What are you planning to do in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com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acatio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408-E6A6-46AC-8D57-C0DB0813CFD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定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gentlem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tanding over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re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s our princip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Men _____________ do n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now the pleasure of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fe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住在城里的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3962520"/>
            <a:ext cx="30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iving in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98A-305F-4F65-82BC-2E945AB6FD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5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宾语补足语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found the bo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ying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gras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I watched him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ainting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ou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147-D232-4440-85A8-A48607E79B8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5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宾语补足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听到一只鸟在树林中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看见她在过马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760" y="3276720"/>
            <a:ext cx="73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heard a bird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inging in the wood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3960" y="4648320"/>
            <a:ext cx="71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saw he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alking across the roa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E7D-C630-4577-B8B0-38EA1B8FFFA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2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1800" y="3429000"/>
            <a:ext cx="75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olk music has been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ssed dow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9560" y="4724280"/>
            <a:ext cx="76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this way stories wer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ssed 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03C-81E3-469E-93C0-13EEA05A48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looks forward every spr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the flower-lined garden.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aying a visit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alk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alking in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B98-5798-47BE-95FB-77B1607F26C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looks forward every spr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the flower-lined garden.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aying a visit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alk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alking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CFC-F0EB-4F2C-B98B-6EC30F91837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Once your business becom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national, ____ constant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part of your life.       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ou fl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. your f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fl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4B3-DA91-4729-9BBA-049DDDEE5A3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hat worried the child mos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to visit his mothe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spital. (Shanghai 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is not allow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his not being a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is being not allow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43D-D2A2-4519-BC68-CED5407BAA2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hat worried the child mos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to visit his mothe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spital. (Shanghai 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is not allow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his not being a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is being not allow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C7E-0D3B-4F96-82D0-4E020CDFD6C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When I got back home I saw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ssage pinned to the do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rry to miss you;  call you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ater”. (NMET 9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ad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ads  C.  r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400-1BA6-471D-ABE1-775A7362A2D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When I got back home I saw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ssage pinned to the do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rry to miss you;  call you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ater”. (NMET 9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ad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ads  C.  r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F52-2784-4BC5-BD60-70AEFD0C4EC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____ boy was last seen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ear the East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issing, play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issing,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issed, played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CA3-F5EE-4682-BD6D-B1C3643D2D6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____ boy was last seen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ear the East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missing, play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issing,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issed, played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017-4105-47BA-A5A1-0224D5B4C17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ony was very unhappy f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o the party. 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aving not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having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not having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651-068B-42C0-A42E-4FDDF0CB5D7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o give or leave to people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re younger or come l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传给、流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n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注意：三个词组都通常用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被动语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72D-B14B-4E9C-B787-30AF9523E9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ony was very unhappy for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o the party. 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aving not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having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not having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79B-3223-4BC6-9960-C4183A01BBF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5---Page 5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actice 6---Page 5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1---Page 1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2---Page 1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Unit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25D-6E97-4C37-8CD7-81A3B1AC84F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Writing---Page 5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8B7-CECE-4A84-ADFF-B74D0CE109C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ass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lett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o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nager as soon as I go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is custom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s been ha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ince the 18th centu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0B4-96CE-48CA-AA41-1702FE830D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on, han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好传统应该世代相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ood tradition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276720"/>
            <a:ext cx="114933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                         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h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e pas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from one generation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82C-D045-48A5-A111-4803746C83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… by hear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记住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eep in mind   &amp;   bear in min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1440" y="3429000"/>
            <a:ext cx="66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used to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ear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undred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ng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hear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EB0-29B9-435B-913E-44C0D44D7E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8:25:24Z</dcterms:created>
  <dc:creator>BJ4HS</dc:creator>
  <dc:description/>
  <dc:language>en-US</dc:language>
  <cp:lastModifiedBy>Zhang Lingdi</cp:lastModifiedBy>
  <dcterms:modified xsi:type="dcterms:W3CDTF">2003-06-03T06:48:16Z</dcterms:modified>
  <cp:revision>105</cp:revision>
  <dc:subject/>
  <dc:title>Unit 21 Music （二）</dc:title>
</cp:coreProperties>
</file>